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F27-3DCC-4278-9145-A1ADF23F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7EA-7A60-479A-BC24-30678CC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A50-01E8-4069-A07E-ACB36111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45E-F3EB-415F-BE0F-C3708999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B2CA-BBD2-4D5C-B181-6D7DEA56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2EF-9C4D-4A4A-A599-B70C441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D71E-8490-468E-B46C-D97487A4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DC98-81C6-4826-89BE-E85561C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EB16-70A3-4F85-8986-81A6577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710F-0273-43AA-A8F2-E285B46B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696A-1CB8-41E3-9B30-CE85BCC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DDC-6027-4280-9CCF-75D97CC2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B91B-A8B5-48BD-AB1A-D2521B8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DA38-2CB5-4663-86D6-E2290B42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C3E-A8BC-464C-8E60-831108EA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769-4BD7-4069-9DF8-AFC9D1A1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0AC3-7078-4B6E-A47C-335F0EAA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80D-AB9A-4249-B790-90B3284B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4A7-6192-49F0-A9E7-3067C79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EE5-913E-48F0-AE67-C8C2ECC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A5B-9A45-4B96-A6DB-F8976C7E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651-4324-4D40-BE56-6068DEB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6FB-E872-418E-9787-FD929AE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06D-2C9B-4AEB-B633-5A53600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FC7-8419-4716-8EC0-774A95A734B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F4F2-B173-49E7-9754-B185ECB138B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LASMA MEMBRAN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UNDARY THAT SEPARATES THE INTERNAL PARTS OF THE CELL FROM THE 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LY PERMEABLE -    CONTROLS WHAT ENTERS AND LEAVE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LL FLUID IN WHICH THE OTHER CELL PARTS ARE SUSP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URE IS SOMEWHAT LIKE GEL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RGANEL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BODIES WITHIN THE CELL THAT CARRY OUT SPECIFIC CELLULA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477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RGANELLE IS A SMALL, ROD-SHAPED BODY WITH A DOUBLE MEMBRANE (THE INNER MEMBRANE IS GREATLY FOL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CELLULAR RESPIRATION - A PROCESS WHICH RELEASES ENERGY FROM FOOD &amp; STORES IT AS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IBOSO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, GRAIN-LIKE BODY, USUALLY ATTACHED TO THE 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ARE THE PROTEIN FACTORIES OF THE CELL - THEY ARE THE SITE OF PROTEI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32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NDOPLASMIC RETICULUM (E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PARALLEL MEMBRANES THAT CONNECT THE NUCLEAR MEMBRANE WITH THE PLASMA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LIKE A SYSTEM OF CANALS TO TRANSPORT MATERIAL THROUGH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IBOSOMES ARE ATTACHED = ROUGH ER; IF NO RIBOSOMES PRESENT = SMOOT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 MAIN REGIONS OF THE CE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934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OLGI COMPLEX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GANELLE MADE OF A GROUP OF SLIGHTLY FLATTENED, STACKED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OUGHT TO CONCENTRATE &amp; STORE CELL SECRETIONS SUCH AS ENZYMES &amp;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&amp; STOR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YSOSOM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IZED KIND OF VACUOLE THAT IS A SACK OF STORED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DIGEST PROTEINS THAT HAVE BEEN TAKEN INTO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WHITE BLOOD CELLS C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ULF &amp; DESTROY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OF PROTEIN FIBERS &amp; HOLLOW FILAMENTS THAT GIVE THE CELL ITS SHAPE AND HELP THE CELL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NTRI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DY MADE OF BUNDLES OF PROTEIN FIBERS, LOCATED NEAR THE NUCLEUS OF ANIM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SPINDLE FIBERS THAT AID IN 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ANIMAL CELL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ACUOL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S IN THE CYTOPLASM SURROUNDED BY 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TORE FOOD, WATER, O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OFTEN HAVE A LARGE, CENTRAL VACUOLE FILLED WITH WATER IN THE MIDDLE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1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GID, NON-LIVING LAYER FOUND OUTSIDE THE PLASMA MEMBRANE IN PLANTS, FUNGI, &amp;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UPPORT FOR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LANTS ITS MADE OF CELLULOSE, IN FUNGI ITS MADE OF CHI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LOROPLA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THAT CONTAIN THE PIGMENT CHLOROPH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PLAN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PHOTOSYNTHESIS IN COMPLEX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0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OL CENTER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MATERIAL (DNA) AND IS SURROUNDED BY A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OL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 DARK-STAINED BODIES WITHIN TH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RUCTURES ARE THOUGHT TO MAKE AND STORE RNA; THEY ARE THOUGHT TO HELP MAKE THE 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807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AT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, GRAINY LOOKING STUFF INSIDE THE NUCLEU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ATIN IS MADE OF TANGLES OF DNA &amp;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ORES GENETIC INFORMATION &amp; CHANGES FORM JUST BEFORE CELL DIVISION TO BECOM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LY-STAINED, PAIRED BODIES MADE OF DNA AN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LE ONLY DURING 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ONTAIN THE GENETIC INFORMATION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03:01Z</dcterms:created>
  <dc:creator>NHS</dc:creator>
  <dc:description/>
  <dc:language>en-US</dc:language>
  <cp:lastModifiedBy>Clayton Johns</cp:lastModifiedBy>
  <dcterms:modified xsi:type="dcterms:W3CDTF">2009-12-22T13:45:52Z</dcterms:modified>
  <cp:revision>22</cp:revision>
  <dc:subject/>
  <dc:title>THE CELL</dc:title>
</cp:coreProperties>
</file>